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B2E-8D56-4B2B-BA63-0CF5D18C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B6A-6025-4BC7-9C29-343F8760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860-4F47-4059-8403-7C56A123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A45-BF14-4821-8140-0844CCAE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5C7-30A6-40AE-A766-4CD03533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52D-8053-48D0-B762-36623B8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AEC-094F-431B-A28C-9C54CBA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01B-1F44-4012-8172-0E3D84E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76B-94BB-4570-9E7B-9B9FFEE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52A-3D9C-4710-AC0D-C3A5D68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563-50C3-4BDE-8849-C2B8848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EE0-3CF9-4B45-8980-1B33A68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F8B-9E42-4047-81E8-2F830A4657C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What Is Migration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g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defined as a permanent or semi-permanent change in where someone li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stance, if you and your family move to Australia due to your dad getting a job out there, you have all migr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ll go Australia for a three week holiday, then you have not mig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a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migrate only for a short period. Turkish immigrant workers to Germany may only go there for a period of month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made a semi-permanent move so can be classified as migra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as chalet-maids in a ski resort for the winter also could be classified as having made a semi-permanent mig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rations fall into two grou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nt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ere the migrant decides to mo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ere the migrant has little choice but to mov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Migratio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igration is the permanent or semi-permanent movement from one place to another. This can be within the same country, or be between countri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or place from which the migrant begins is called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origin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untry or place to which the migrant travels is called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destination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 between the origin and the destination the migrant is described as being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en-route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king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decision to migrate can be a very complex one, or could simply be for one reas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igration normally involves considering the positive aspects of the move (called the pull factors) and the negative reasons for the move (called the push factor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ush Vs Pu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ush facto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the things encouraging someone to move from a place. These include losing your job, having few friends remaining in the area, the cost of living, poor resources and no employment prospe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ull facto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the things that entice someone to a new place. They could include such things as a warmer climate, better job prospects, a larger salary, better standard of living, more friends and family, better public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n-Route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-route factors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r intervening obstacles, are things that might hinder the migr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se could include transport difficulties, passport and visa requirements and a lack of sufficient money to complete the migr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22:01Z</dcterms:created>
  <dc:creator>Dell_02</dc:creator>
  <dc:description/>
  <dc:language>en-US</dc:language>
  <cp:lastModifiedBy>Dell_02</cp:lastModifiedBy>
  <dcterms:modified xsi:type="dcterms:W3CDTF">2011-01-25T04:35:00Z</dcterms:modified>
  <cp:revision>2</cp:revision>
  <dc:subject/>
  <dc:title>What Is Migration?</dc:title>
</cp:coreProperties>
</file>